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97A-883F-4052-B778-01E8FAC1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97D-7EB8-4102-8F27-0D19DCDB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10FCE-5424-4CA6-8454-DAE874AE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2E846-68A5-4AB6-917F-23BD8BD6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1E8FF-DCCF-4166-934B-E09DE214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BEBEE-89BE-489B-A860-A3C8A71D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8A49D-9840-4DA1-9705-4E660247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F9104-9EEC-4ED2-8E65-6B508EFC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C5B7C-42CF-41E1-8E3C-E2CD827E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D56F4-7175-40D1-8466-ABB84F49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93903-CC72-4DAE-9D52-B4CA5D9C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141-3B48-41FA-92F3-566253C4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83E5-74AF-4EF4-9B20-4F86E479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F889-7654-4D0B-8E3F-FAFEBF7A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66FE-4000-46F1-91B0-9136A4F6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2339-E34A-4D39-85C5-08493202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6815-0917-4053-8EA3-6D8D10CD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9A56-6885-45B3-B9EE-124FC0A0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3DB9-3CC5-45F5-921E-764D0954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8A4F-6A7D-4730-991E-CFD7A093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95E-5FAC-4E81-A0DB-C073FFA2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DDAF-672D-4B8B-B1EA-6377C3DE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E7BC-A47E-420F-B4A2-AEFEB7ED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4923-7A5D-498B-B69F-0C348A2C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6077-8CDF-4D34-B30A-05130298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F4F9-F806-49D8-8D2C-BBB3A3A4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BC39-E87A-48D5-8EAD-52A63BA5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AF810-4F83-4D7A-9815-DD7C6BD6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A1DFD-A367-42AC-A1FD-7542083D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EFBE-1212-4A34-B05D-98C375FF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EECE6-8D54-4248-8A0A-9449455D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46C-231F-46BA-B796-9F80B4B7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2C7B6-C5E6-430A-BCB1-1707C027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639F6-18B8-4E0F-82AB-C97BBAB6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C67A6-4B48-4C11-8462-2A62252A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46514-361B-449F-BF89-76EC5BAA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2633-7DB7-4706-8A20-1433B41E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864D0-AB3B-4C07-A3DF-598CA9FA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5A216-081D-4BDC-8662-F19B01A4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E2C6B-453C-4082-A53D-AEE312B6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31134-DAAB-49A4-BF24-5883D5A6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2CAAA-701C-4066-9706-0DAA55BC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0A3-561F-4DF5-ABCD-71ED6D8F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FE1A2-DEEB-4BBC-B2D8-2973491D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EC21D-4952-4C33-A38A-8F3CAB39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F98C9-1633-477F-B672-736363F9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D9652-4C53-4527-AD45-09F3757F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4576C-C74A-4675-A39B-76518957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1A7DE-A725-4637-929F-D765A6A4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CB624-FC4D-4CDD-A662-24C481B1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45C8E-1B48-4C8A-8A82-6DCA91CD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38969-F8D0-4BA6-B9EE-616509A8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45DB2-DE04-4039-AB2D-332301A4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C31-3101-4545-AFA2-97990944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8A35B-B0C6-4AA8-9DAD-D553B670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BA46F-09DE-4504-9137-67394F92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2DE09-366A-4BD0-8BC4-DC5EFFD4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9DB6E-CA6F-420D-BE8A-F01094CF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96334-F458-4382-8247-83697921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E092B-2C37-4927-9E3C-3219A6C2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AF412-28D1-45FF-8BDE-F15E0BFC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DC3CB-49C1-49B6-906F-717DF26F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2593C-EB79-4CB1-9E98-3FBD754E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C9A88-11A9-44E9-AFB2-9DEFABEE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1C02-B8C9-46E8-A6CA-DD5403C7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FD8CD-E330-483B-922D-DD58D65F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399AD-8FAD-4E0E-A30C-B9BBB377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8AAE3-0392-4C67-8B9F-534D7BAA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799F7-5696-499C-9C2B-6C3A1944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9B884-5445-429D-A935-0BE207C9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329DB-92F6-45C3-B992-F8438F1B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A5CBE-089F-4149-9D85-6336BFCC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9AB0C-5569-47F3-AADA-C053A0E0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DBE89-204A-42C3-93F4-41D7B2A6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1A385-6BCE-43B7-808C-140FC75D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BAC-C484-446F-BC72-3459B673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E231E-B85B-4FF8-B17A-8EC59EFF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E7874-1778-4E89-8955-386072EB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F794D-96DB-4B3C-B239-1F44FA65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70ACE-65B3-4548-894A-0A81F7AA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5CC30-2D5A-44E2-A767-F9C01DA9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EDA7B-AA5F-41A8-8626-E9FE99A7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7D112-1A74-436C-8D56-78480A83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74BDC-5620-4ECA-BC41-9FA77FB1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BDF7A-3982-4AC1-8EBA-9BFD8956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55B80-CEF2-4323-B88A-61EB8FC7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527-EE68-4866-9FAC-9DAE5EC1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E79D9-A598-4596-AA77-0BB8C1E2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964D1-BC80-474C-9844-A0C56F39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79F02-9725-4EFC-A35D-998B308B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9DAD8-645D-4FE0-937C-5B7FF0AC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08BC2-8213-4F1A-BCAC-05AB2F99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96BDB-5218-4635-987C-D1AF4415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56408-8274-4467-B38C-EC5EA00B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B29AD-598A-4318-B433-8DBFBCF6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29ECB-4ECB-41ED-8668-9A868711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1D794-DBF4-4D43-912D-4FD07EF1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BC3-83CC-404B-A354-E7940F6F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95B6C-962B-4A2C-99C4-C64D3A0B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CE333-F840-4F02-987C-49DA337A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C072A-3329-43AB-A6C6-C9284C51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3DFFB-B606-46B7-8EBB-EA995FC9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BDED6-C659-4F6C-BEA4-8D8FDCA9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0616C-2C10-4058-9C8B-FC0AC100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F5F93-1F81-4286-9E69-4868821D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04A6C-C54B-4CAB-9733-2A5A0406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A7541-E3D9-4ED7-ABCA-F23E5A00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B838A-D4C6-484F-B4D9-D1C8BF69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F1E1-A930-4015-8EAF-5301D38D0499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5438-26FB-435F-A7FA-0745C893C4B1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1996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8639-6D19-4256-A8A5-1406AD595DAD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9F21-7098-41C9-A67E-3264AE919B2A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BD2C-15DD-431B-A082-48CD291072B2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1996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9382-2891-4DD7-9D8D-27D1C26B99E8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5F57-CDDA-440D-9D0B-7071096F2F7A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7C2C-BBEF-427A-BFFE-3D1887396E11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1996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59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706A-0818-4128-8250-D6E44525C47A}" type="slidenum"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ccff"/>
                </a:solidFill>
                <a:latin typeface="Comic Sans MS"/>
              </a:rPr>
              <a:t>HOW TRAINING AND FITNESS AFFECT THE HEAR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70" name="Picture 4" descr="C:\DOCUME~1\Dave\LOCALS~1\Temp\\msotw9_temp0.jpg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"/>
          <p:cNvSpPr/>
          <p:nvPr/>
        </p:nvSpPr>
        <p:spPr>
          <a:xfrm>
            <a:off x="428760" y="857160"/>
            <a:ext cx="82864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en a person trains regularly their stroke volume will increa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 the other hand, the heart rate does not increase, it DECREASES, so the heart becomes more efficie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aining increases the heart muscle in size, thickness and strength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4"/>
          <p:cNvSpPr/>
          <p:nvPr/>
        </p:nvSpPr>
        <p:spPr>
          <a:xfrm>
            <a:off x="357120" y="57168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DO WE MEASURE CARDIOVASCULAR FITNESS 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285840" y="17733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best measure of cardiovascular fitness is called MAXIMUM OXYGEN UPTAKE or VO2 MAX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357120" y="3500280"/>
            <a:ext cx="878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is measures the ability of the heart, lungs and blood to transport oxygen to the muscl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357120" y="542916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frequently used test for this is the BEEP TES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" descr="C:\DOCUME~1\Dave\LOCALS~1\Temp\\msotw9_temp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DOCUME~1\Dave\LOCALS~1\Temp\\msotw9_temp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428760" y="114300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OTHER TEST IS THE HARVARD STEP TES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C:\DOCUME~1\Dave\LOCALS~1\Temp\\msotw9_temp0.jpg"/>
          <p:cNvPicPr/>
          <p:nvPr/>
        </p:nvPicPr>
        <p:blipFill>
          <a:blip r:embed="rId1"/>
          <a:stretch/>
        </p:blipFill>
        <p:spPr>
          <a:xfrm>
            <a:off x="1219320" y="304920"/>
            <a:ext cx="66294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0" y="228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YOU ARE AWARDED SCORES DEPENDING ON THE HEART RATE RISE AND RECOVERY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0" y="1676520"/>
            <a:ext cx="914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FITNESS SCORE = DURATION OF EXERCISE IN SECONDS            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__________________________________            X 100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2 X SUM OF RECOVERY PULSE RAT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4" name="Picture 5" descr="C:\DOCUME~1\Dave\LOCALS~1\Temp\\msotw9_temp0.jpg"/>
          <p:cNvPicPr/>
          <p:nvPr/>
        </p:nvPicPr>
        <p:blipFill>
          <a:blip r:embed="rId1"/>
          <a:stretch/>
        </p:blipFill>
        <p:spPr>
          <a:xfrm>
            <a:off x="228600" y="3200400"/>
            <a:ext cx="8458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0" y="933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OTHER TEST IS THE COOPER 12 MINUTE RUN/WALK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C:\DOCUME~1\Dave\LOCALS~1\Temp\\msotw9_temp0.jpg"/>
          <p:cNvPicPr/>
          <p:nvPr/>
        </p:nvPicPr>
        <p:blipFill>
          <a:blip r:embed="rId1"/>
          <a:stretch/>
        </p:blipFill>
        <p:spPr>
          <a:xfrm>
            <a:off x="533520" y="304920"/>
            <a:ext cx="7848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C:\DOCUME~1\Dave\LOCALS~1\Temp\\msotw9_temp0.jpg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. HEART RATE OR PULSE RATE- This is the number of times the heart beats per minut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0" y="1844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a trained athlete it is likely to be less than an unfit person and it is therefore heart rate that is used to indicate a person’s fitness level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0" y="3716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eart rate can vary considerably from person to person and even within the same athlete, but 72 beats per minute is often thought of as being averag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357120" y="26028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IS A WORKING PULSE RATE 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57120" y="119700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working pulse rate is a measurement of pulse rate taken immediately after exerci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357120" y="2781360"/>
            <a:ext cx="878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is is an accurate guide to the intensity the heart has been working. A target range (Target zone) can be set for the heart rate to reach during exercise and this can be worked out using the formula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4"/>
          <p:cNvSpPr/>
          <p:nvPr/>
        </p:nvSpPr>
        <p:spPr>
          <a:xfrm>
            <a:off x="285840" y="33336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60-80% of Maximum Heart R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285840" y="162864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.g. The target for a 15 year old i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57120" y="2852640"/>
            <a:ext cx="8786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20-15 = 20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60% of 205 = 12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80% of 205 =164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refore the target zone i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23-164 b.p.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C:\DOCUME~1\Dave\LOCALS~1\Temp\\msotw9_temp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C:\DOCUME~1\Dave\LOCALS~1\Temp\\msotw9_temp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C:\DOCUME~1\Dave\LOCALS~1\Temp\\msotw9_temp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ccff"/>
                </a:solidFill>
                <a:latin typeface="Rockwell Extra Bold"/>
              </a:rPr>
              <a:t>REVISION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resting pulse rate can also be affected by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857160" y="857160"/>
            <a:ext cx="5357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ge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ender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iz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os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at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mo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ody tempera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moking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XIMUM PULSE RATE can be worked out by the formula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059280" y="1844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20 - Ag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0" y="3124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refore your maximum pulse rate would be:-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3200400" y="41911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20- 1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3581280" y="5105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0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75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75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357120" y="38088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. STROKE VOLUME- This is the amount of blood pumped by the heart per bea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428760" y="205740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 rest this may be 85 ml, but when exercising it could go up to 130 ml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4"/>
          <p:cNvSpPr/>
          <p:nvPr/>
        </p:nvSpPr>
        <p:spPr>
          <a:xfrm>
            <a:off x="214200" y="18900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3. CARDIAC OUTPUT- the amount of blood pumped by the heart in 1 minut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285840" y="177336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is is governed by the heart rate and the stroke volume. The formula i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357120" y="3429000"/>
            <a:ext cx="878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rdiac output = Stroke volume x Heart r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0" y="4437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57120" y="4648320"/>
            <a:ext cx="878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or example- If stroke volume was 10 mls per beat and heart rate was 70 beats per minut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0" y="6172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rdiac Output would be 10 x 7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7162920" y="6095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700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3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75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75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DOCUME~1\Dave\LOCALS~1\Temp\\msotw9_temp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C:\DOCUME~1\Dave\LOCALS~1\Temp\\msotw9_temp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C:\DOCUME~1\Dave\LOCALS~1\Temp\\msotw9_temp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10:33:46Z</dcterms:created>
  <dc:creator>Dave Gray</dc:creator>
  <dc:description/>
  <dc:language>en-US</dc:language>
  <cp:lastModifiedBy>Lyn Clarkson</cp:lastModifiedBy>
  <dcterms:modified xsi:type="dcterms:W3CDTF">2008-01-19T03:24:56Z</dcterms:modified>
  <cp:revision>41</cp:revision>
  <dc:subject/>
  <dc:title>HOW TRAINING AND FITNESS AFFECT THE HEART</dc:title>
</cp:coreProperties>
</file>